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B70-7F51-4CF9-B485-622DC611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814-D3B2-4F92-9146-E9BDAB81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28C-9128-4EC1-9E42-F73975BD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16A-560D-4DE5-A37C-FE55642A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EFC5-4F08-425A-B226-A7CAC156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2363-AE3D-43DB-8574-EBA25C33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35CC-808C-45AB-A1CF-0FFE0AF8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CF3E-9413-445B-9914-D1FA1DFD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EF80-98C4-4CF0-A1BA-9CB0FCA1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DECC-02DA-42D6-A4BD-9FEB8BE1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3136-C4F6-462C-9590-DB68572D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E84-96B3-44BA-AB28-F32A59A8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E1CF-B719-4F24-A420-615BB5AD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CA13-DF33-4B0F-A4BE-74A0BF6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65E1-2DB7-41A6-830D-4F0AC6BA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2528-C885-420E-B250-123C34B6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7A8B-BFB1-40EA-9711-D248C594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AB0-4C53-476F-9557-9685AD0A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E4F-ECAF-4AE9-A52D-A9A53AB3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498-66DB-412E-B54F-D643B65C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858-166C-4E16-BCA5-181859EE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E93-2ED7-44D8-8162-2B6AE729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7AB-1C33-4C12-AEED-ABF40C94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DB9-2245-4613-9F1A-20DDD3FE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5286-C5A6-4697-AD01-5578AD98BF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B31B-3FC1-4F0E-951A-BA395054CB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ING RESEAR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hoosing the subjec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topic that interests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Developing Your Thes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opinion about sub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)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eliminary Readin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ized reference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ee examples in textboo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eliminary Outl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major divisions of pap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)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orking Bibliograph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list of possible 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Finding Sourc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puterized card catal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iodical ind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magazines and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aders’ Gu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spaper ind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 York Times Ind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nic 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NC LIVE, ERIC, MLA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3:03:52Z</dcterms:created>
  <dc:creator>Mwilliams</dc:creator>
  <dc:description/>
  <dc:language>en-US</dc:language>
  <cp:lastModifiedBy>Sharon</cp:lastModifiedBy>
  <dcterms:modified xsi:type="dcterms:W3CDTF">2009-11-01T19:36:34Z</dcterms:modified>
  <cp:revision>4</cp:revision>
  <dc:subject/>
  <dc:title>DOING RESEARCH</dc:title>
</cp:coreProperties>
</file>